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565-582D-4DEF-AD13-06DCC850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FF9-F3F0-4C12-81DC-0815207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67D-98B5-42A3-8FD5-418F4FD7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1AE-679F-40B3-AAEF-2B1A4AC8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DBD4-EAFC-4EB6-8714-4D3E824B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FEF-F161-4A5F-9798-ED236ED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BF03-0045-419E-B498-5364C497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2A8-AE77-47FE-9670-A2E433A1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B4A-911C-448A-B21A-43FF80D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3E9C-7A8D-4095-B86F-59D7954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F60-0679-46E1-9B70-76626A5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CA7-4829-44CF-ABBB-19F3035E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B1B1-AEC0-4207-BB04-327BB58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F95-EEE1-4DD2-95C0-4F4CF811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045B-7359-44FF-96F8-AD629A72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6E5-FA5A-49B2-B1D7-9B7168D3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317A-C216-4EDA-9EC1-A03ED79D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854-4C05-4401-A6EF-132E005C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164-5AD5-4598-BA0E-3F7B8B6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713-29C2-48E9-804B-1468D14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3C4-35F1-4398-B2C7-09A1BB5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178-9E7A-434F-9B5A-A4FDD88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C2F-4E18-4E37-A240-3EF0F2B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A15-1B7E-43A3-ADF8-D017AB8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0073-18AB-462F-A391-3AEE5934CC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3D51-46D5-46BD-88DC-6F6ED9057B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5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Etymolog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21:34Z</dcterms:created>
  <dc:creator>sébastien maréchaux</dc:creator>
  <dc:description/>
  <dc:language>en-US</dc:language>
  <cp:lastModifiedBy>sébastien maréchaux</cp:lastModifiedBy>
  <dcterms:modified xsi:type="dcterms:W3CDTF">2003-03-22T10:22:01Z</dcterms:modified>
  <cp:revision>1</cp:revision>
  <dc:subject/>
  <dc:title>Atelier 5</dc:title>
</cp:coreProperties>
</file>