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7B62-6F79-4AF8-91A3-DB6298BE6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220A-8E9E-429B-8F79-B2AFD0DD6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76B1-D0E9-40A2-94B6-99BFBD88D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B523-39F3-4D1F-B068-0446B79ED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C9BC1-AE4F-4E98-9161-31492BFC6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0D67F-B86D-4A00-9FE4-B19348B6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90F9D-09FC-4037-8096-C6EA0D7BB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EB3AF-33EB-4E46-86FB-F4298FB41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F873A-F4AE-4C90-8D58-951F42DEA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4662B-DD13-4C89-9C57-B2FFABD19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E90A9-5057-48E1-81EC-3442757A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AC48-ECCC-4025-AB15-43460C4A5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10C3C-CE8D-4583-AD03-E48B7C9F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1C503-3601-477B-A687-FF5EB78F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6A1F3-D3A5-40C7-94DD-E936D5735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55178-2455-4319-AFA5-A4DB2B936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2DF32-5013-4351-BC96-F109D7FEA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C8C6-2C83-4D26-B04B-FDC7E89E5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BE7F-B5BB-40B1-8C4C-EFC457ADF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B615-A5A0-4FFE-AA16-2522E0654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D912-2AA0-46D1-A4BC-0E34D1FAC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46E5-1E37-492D-AA4B-0F12FAE2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C7AE-20FD-4DFE-BAA6-6D90699A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3C32-1228-42B4-BA4E-C8E15AD5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4AE32-61B7-4791-B54C-EB245BB334C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BE7E2-BD7F-44D1-B920-48EAD009344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0000"/>
                </a:solidFill>
                <a:latin typeface="Comic Sans MS"/>
              </a:rPr>
              <a:t>Atelier 2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703dff"/>
                </a:solidFill>
                <a:latin typeface="Comic Sans MS"/>
              </a:rPr>
              <a:t>Mythologi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2T10:19:18Z</dcterms:created>
  <dc:creator>sébastien maréchaux</dc:creator>
  <dc:description/>
  <dc:language>en-US</dc:language>
  <cp:lastModifiedBy>sébastien maréchaux</cp:lastModifiedBy>
  <dcterms:modified xsi:type="dcterms:W3CDTF">2003-03-22T10:19:54Z</dcterms:modified>
  <cp:revision>1</cp:revision>
  <dc:subject/>
  <dc:title>Atelier 2</dc:title>
</cp:coreProperties>
</file>