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11E-842D-4EED-9831-8B0BC5D6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5B2-12BB-4B3E-BF90-EF9EA2FA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E97-8A34-493B-BA20-6A596A0D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07D-5551-4881-AD5E-E16C75D3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11CE-0299-46F4-9398-5516885B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CC78-DE97-4975-BF05-4FA8B71A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D6C7-F040-4120-BFA2-732FEEA6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311A-784B-499C-8381-BDCA4DA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052B-5EBA-4BF6-8AC3-8322629E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B8C0-EE1A-4387-8A65-2F43FB61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A8A5-27A1-425E-B156-C7AA8C5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1C6-CE92-4E2D-91C4-37E9286F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604E-CE8D-42F1-8EF5-B214B976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B589-004B-4D33-9408-19AD2C5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AA13-9F57-48AB-B7C9-32BD2A2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5850-815C-4CB8-880B-E0E645A3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8E7D-2E05-4252-AEC1-C77CBA96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2CE-0444-4C2F-BC22-EF19B72C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CFB-43EE-454D-9EF6-9045D313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453-A35B-432B-8158-43CB51B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ECD-CC91-46DB-B184-E20C0C1F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2F9-0D19-498E-8969-E94834A9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02B-3E20-4410-9790-A3B81F4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78A-9F1A-4F7A-ABEF-13F6CAC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48F4-6755-46AD-9449-4DF9CFF4B2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7B6B-FC63-4383-8B03-A7372F73C4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0000"/>
                </a:solidFill>
                <a:latin typeface="Comic Sans MS"/>
              </a:rPr>
              <a:t>Atelier 4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703dff"/>
                </a:solidFill>
                <a:latin typeface="Comic Sans MS"/>
              </a:rPr>
              <a:t>Civilis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0:20:59Z</dcterms:created>
  <dc:creator>sébastien maréchaux</dc:creator>
  <dc:description/>
  <dc:language>en-US</dc:language>
  <cp:lastModifiedBy>sébastien maréchaux</cp:lastModifiedBy>
  <dcterms:modified xsi:type="dcterms:W3CDTF">2003-03-22T10:21:23Z</dcterms:modified>
  <cp:revision>1</cp:revision>
  <dc:subject/>
  <dc:title>Atelier 4</dc:title>
</cp:coreProperties>
</file>