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F2F-6749-4D08-96CA-CB91666A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4287-23EC-4508-BB95-2D33FD80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209-6879-4B63-AEBE-A901012C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330A-AB68-4B83-A507-18D82CE8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7C3B-B84D-47D6-B2E0-FD974C92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4A50-2FF1-47A8-86E2-881B63CF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318B-4557-4228-9C8F-92012493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22AA-8FB8-490C-B8CD-47E2E102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997D-5C07-41B4-80BD-C01700FB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454D-C67C-47CD-8756-BA42D0B4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4CFD-46AC-4C2A-86EC-C3F237B7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1B4-0F2A-47AA-847A-056808BF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9644-A8CE-49E4-B7A6-49B7463A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2388-9D32-494E-8816-7CE626E6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FC22-0F7D-4DA1-B701-14F14292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B89A-E812-4BD8-ADFB-C501AEAB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E693-F1B1-4530-9031-7E783658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C43-CEED-40BA-984E-00331C95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9240-2634-4BA2-8CA7-F39E74B2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87F-C441-470A-92CB-1A839E00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A27E-B75C-4BB2-8861-6A279D61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E50-9836-462E-8489-530EB813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93D9-538B-48D1-934E-700D65F4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8E74-4D41-49DB-925F-16B7CE66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1B3C-B794-404D-BCA5-BDC25CA8C12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C179-93F6-4601-98C2-3EAE0412AE5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0000"/>
                </a:solidFill>
                <a:latin typeface="Comic Sans MS"/>
              </a:rPr>
              <a:t>Atelier 3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703dff"/>
                </a:solidFill>
                <a:latin typeface="Comic Sans MS"/>
              </a:rPr>
              <a:t>Initiation à la langue lat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0:20:06Z</dcterms:created>
  <dc:creator>sébastien maréchaux</dc:creator>
  <dc:description/>
  <dc:language>en-US</dc:language>
  <cp:lastModifiedBy>sébastien maréchaux</cp:lastModifiedBy>
  <dcterms:modified xsi:type="dcterms:W3CDTF">2003-03-22T10:20:52Z</dcterms:modified>
  <cp:revision>1</cp:revision>
  <dc:subject/>
  <dc:title>Atelier 3</dc:title>
</cp:coreProperties>
</file>