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FA6-A755-4249-8508-AB689845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15F-FFDA-4922-8416-F33A6315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6D0-2885-46F0-BF5B-07C6898A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2DF-AEAA-4B48-AA7A-1B231CAA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D727-8C4C-4CE9-9BE0-31532C7C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D864-AF67-4582-B303-B0DEB16D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2539-2568-420B-8B47-6BFE3052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44F7-6000-41A6-B0AE-A7CB14DD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8ACC-2F8D-4E98-9791-779110C4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BC6C-777A-4949-A7AD-E108D69D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8F40-2473-4C14-9CB6-CEE23174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A59-D96A-4A84-BD69-D6DC16F9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CB58-514C-4CBD-8D0D-72E9F118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C4F9-429B-466C-B10B-37B1897C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BF87-4004-480D-8B82-9B001F15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AFCE-FF0F-437A-B7A8-31C57DDA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12E7-4343-482E-ADD9-05BFD675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BD9-3467-4202-9999-E082A379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439-4BAC-4336-A100-0009FE4A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5A7-F77D-4F86-BC94-B3B8BA14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507C-61E5-4EBB-86FA-8DF19B8C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318-CCBF-4BB0-B095-6A91569E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CC2-C619-47B2-A0C1-13E9D7F6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408-40C0-4F47-BEB5-D8D48473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5D01-6F13-4BD8-8DB2-0F2D0EBBDD8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7326-8966-4F19-865A-0F7E100C57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0000"/>
                </a:solidFill>
                <a:latin typeface="Comic Sans MS"/>
              </a:rPr>
              <a:t>Atelier bonu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703dff"/>
                </a:solidFill>
                <a:latin typeface="Comic Sans MS"/>
              </a:rPr>
              <a:t>Archéolog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0:23:08Z</dcterms:created>
  <dc:creator>sébastien maréchaux</dc:creator>
  <dc:description/>
  <dc:language>en-US</dc:language>
  <cp:lastModifiedBy>sébastien maréchaux</cp:lastModifiedBy>
  <dcterms:modified xsi:type="dcterms:W3CDTF">2003-03-22T10:23:36Z</dcterms:modified>
  <cp:revision>1</cp:revision>
  <dc:subject/>
  <dc:title>Atelier bonus</dc:title>
</cp:coreProperties>
</file>