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7CE-BF11-4957-A786-E298F277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372-4906-4F1E-8B38-94486A4E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B43-56EE-45E2-A7EF-3FD9BA6D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E94-742E-40E8-B9B5-32092FDC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C142-37D9-4E74-9C1A-D4A8BF43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A967-9992-430B-BC22-A51A9D0D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EF0C-029C-4140-8740-819F1CBD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FFB5-A218-4F58-9815-53456C8D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89C4-3258-479E-8906-BB22DEE0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ACF1-370A-44A5-A9D0-31BF021B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7931-EDBA-43DD-A9F9-5BEE9B35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31B-1715-4221-9E05-E5B6D295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725F-F2DB-4A51-B8E3-4E9A80F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5FA7-C7FA-4402-92A0-D587631C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2532-8363-4D88-8906-27087E2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C4D8-B493-45F4-9739-7B8C9C05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F3EF-2863-4438-81AF-D5E9C3C8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9AB-E4A0-4441-AFEB-74D2D434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E01-2575-43C5-9A72-E8053627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F47-4492-4E06-A2DA-965E199E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045-DDFB-4E25-9555-A01AFD12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91E-71E7-43E7-A2D4-4215E70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AF2-BB16-4F97-95E3-6C74667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F8A-4535-4FCC-AE1E-33E3913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64E6-D9F9-4ADB-92A2-B60E20B74D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88AB-F5D0-4D0E-BC09-9E150828E3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0000"/>
                </a:solidFill>
                <a:latin typeface="Comic Sans MS"/>
              </a:rPr>
              <a:t>Atelier 1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703dff"/>
                </a:solidFill>
                <a:latin typeface="Comic Sans MS"/>
              </a:rPr>
              <a:t>De nouveaux moyens d’enseign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0:15:50Z</dcterms:created>
  <dc:creator>sébastien maréchaux</dc:creator>
  <dc:description/>
  <dc:language>en-US</dc:language>
  <cp:lastModifiedBy>sébastien maréchaux</cp:lastModifiedBy>
  <dcterms:modified xsi:type="dcterms:W3CDTF">2003-03-22T10:18:54Z</dcterms:modified>
  <cp:revision>1</cp:revision>
  <dc:subject/>
  <dc:title>Atelier 1</dc:title>
</cp:coreProperties>
</file>