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A2E-6347-4893-B255-34D1E2C9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41E-C16C-4212-8D06-4E1FD70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98A-50E7-41FF-960E-0D2CD5E5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82B-4E58-45A2-958F-1648C7D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2484-24A4-4A39-80CA-2FEF37CE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22C1-7621-43F0-AD02-4B41837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FDA-A295-4949-912F-F76779B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E7FD-9093-47D2-B335-4D0D0C9D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95B-7A74-45D5-9DEF-5AAE0F6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B26-02B2-40F4-8989-1B6572C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679D-FD9B-442E-BB9F-5831076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116-B71E-4B63-933A-0306E37E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4C24-E5C6-4228-AC69-8901FAC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0D18-2A5C-4B33-B194-9AAE1A9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2C56-F1D5-4E8F-B5E7-3B97CAE1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0E70-E993-4116-8C50-EB2EEF98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C81D-59A1-400B-8312-E375ABA0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0AB-7BEF-490F-B69D-62584CE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9B6-25FC-4F96-A2A3-E1BFF44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459-3407-4B03-A302-10230127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E7C-F296-4F41-8FCB-1757E16A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237-ABE6-40C5-A3F2-D0B4C6C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EAF-2F62-4BA1-B905-A3FA7C3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AA2-485F-40A5-8231-F6110EF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9505-3FA1-4212-B573-34DB9EE119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E7B-CCA1-4E43-A232-5A1BB34129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6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Le Latin…ça sert à quoi ??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22:07Z</dcterms:created>
  <dc:creator>sébastien maréchaux</dc:creator>
  <dc:description/>
  <dc:language>en-US</dc:language>
  <cp:lastModifiedBy>sébastien maréchaux</cp:lastModifiedBy>
  <dcterms:modified xsi:type="dcterms:W3CDTF">2003-03-22T10:22:53Z</dcterms:modified>
  <cp:revision>1</cp:revision>
  <dc:subject/>
  <dc:title>Atelier 6</dc:title>
</cp:coreProperties>
</file>